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1800"/>
            <a:ext cx="4797360" cy="35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E65B0-1279-4393-94CE-81432E15A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rcolemma specialized to propagate de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plasmic reticulum serves as a giant Ca+ resevo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ic filamets exhibit specilized arrangement designed to produce contractile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on is an ATP-dependant process –therefore Lots of mito required for insta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muscle (white –red-intermed) have differences in their contractil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 or flagellar movement are too slow, it would take all day to get to the front door of your a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rom the standpoin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cellular structure designed for the development of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ell types ( skeletal, cardiac smooth)  and (red, white, intermed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ing membrane potential  of a muscle cell is  approx  -90 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axons arise from ventral horn cells and terminate in your big t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quite long 4 ft  (or 1 1/2ft  an a half in my c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e tissue provides a space for the entr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hich initiate and control the contractil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 which supply the fuel for the contractile machin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:    External Vs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ttach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 single cells &amp; groups - mysial coverings ;     Bone – myotendonous j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gnit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 scratching an itch vs smashing your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 muscle cells-  all fibers need to get the joke at the sa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muscle and nervous system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finger to nose (no drinking) requires cerebellar 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neration:    skeletal &amp; smooth  pretty good re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--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ars on the slides mean?  -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ells are long cylindrical cells-  length can vary in specific muscle - length up to 30cm (1 foot)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muscle cell are collections of protein strands = myofri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fribrils are composed of individual myo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Hundrends to thousands of myofribrils/ cell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thousands of myofilaments/myofrib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filaments – 2 major proteins   actin &amp; myosin in precise alignment = st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F89-437D-4405-95EF-A813480C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2E5-9940-4BD0-8FF0-27A4D85F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068-9A65-4743-B575-20C767A2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047-B518-4780-ADA2-A920C083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840-C94F-425D-9CFA-4FA57AFF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F48-049F-425B-9DCF-589206FA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378-CBB8-4698-9286-0668CA48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D06-1315-4B88-A311-C976755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F41-9E17-4310-8735-431B594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024-F83D-48EB-9DCE-913B2B34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424-4419-49C7-9A92-EBA21515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279-0DC2-40F6-BAF9-E3A42270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123-E401-4B4F-B647-7034EB869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41920" y="2560680"/>
            <a:ext cx="343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SCLE  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52280" y="152280"/>
            <a:ext cx="8915400" cy="6492960"/>
            <a:chOff x="152280" y="152280"/>
            <a:chExt cx="8915400" cy="6492960"/>
          </a:xfrm>
        </p:grpSpPr>
        <p:sp>
          <p:nvSpPr>
            <p:cNvPr id="67" name=""/>
            <p:cNvSpPr/>
            <p:nvPr/>
          </p:nvSpPr>
          <p:spPr>
            <a:xfrm>
              <a:off x="6858000" y="838080"/>
              <a:ext cx="220968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USIFO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8380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BRANCHED FIB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838080"/>
              <a:ext cx="21337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CYLINDR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280" y="8380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ELL SHA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5749920"/>
              <a:ext cx="220968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5749920"/>
              <a:ext cx="228600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8280" y="5749920"/>
              <a:ext cx="213372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280" y="5749920"/>
              <a:ext cx="228600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MITOT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DI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4780080"/>
              <a:ext cx="220968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(MITOSI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4780080"/>
              <a:ext cx="228600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4780080"/>
              <a:ext cx="213372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(SATELLITE CELL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280" y="4780080"/>
              <a:ext cx="228600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REGEN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809880"/>
              <a:ext cx="220968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LOW, FORCEFU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809880"/>
              <a:ext cx="228600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RHYTHMIC,  SPONTANE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38280" y="3809880"/>
              <a:ext cx="213372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LL OR NONE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3809880"/>
              <a:ext cx="228600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ontrol of CON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0" y="3027240"/>
              <a:ext cx="220968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G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JUN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027240"/>
              <a:ext cx="22860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CALATED DISK , Gap J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3027240"/>
              <a:ext cx="213372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280" y="3027240"/>
              <a:ext cx="22860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EL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JUN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2133720"/>
              <a:ext cx="220968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CENT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2133720"/>
              <a:ext cx="228600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CENT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2133720"/>
              <a:ext cx="213372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MULTIP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PERIPHE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2133720"/>
              <a:ext cx="228600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NUCLEI / C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(LOCATIO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0" y="1523880"/>
              <a:ext cx="22096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0" y="1523880"/>
              <a:ext cx="22860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1523880"/>
              <a:ext cx="213372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280" y="1523880"/>
              <a:ext cx="22860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SARCOME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152280"/>
              <a:ext cx="220968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MOO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1522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CARDI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52280"/>
              <a:ext cx="21337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KELE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280" y="1522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EA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80" y="152280"/>
              <a:ext cx="891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280" y="8380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21337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280" y="302724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38098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280" y="47800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57499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280" y="6645240"/>
              <a:ext cx="891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152280"/>
              <a:ext cx="0" cy="649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67680" y="152280"/>
              <a:ext cx="0" cy="649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15238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15228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receives its innervation from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nomic nervous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he neuromuscular innervation of smooth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ells differs from skeletal muscle in two respec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nomic axons innervate many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s by synapsing in 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PASSANT” fash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eurotransmitters responsible f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in smooth muscle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etylcholine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=    parasympathetic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repinephrine =    sympathetic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304920"/>
            <a:ext cx="8169120" cy="64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WTH AND REGENERATION OF MUSCLE T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ELETAL MUSCLE REGENE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keletal muscle grows by enlargement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isting muscle fi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ypertroph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 rather th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ddition of new fibers (hyperplas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 fiber hypertrophy appears to be du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imarily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 of new myofibri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keletal muscle cells have lost the capacity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totic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aged muscle cells must be replenished from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population of stem cells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satellite cells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und at the periphery of many muscle ce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enclosed in the same basement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17680" y="522360"/>
            <a:ext cx="8321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DIAC MUSCLE RE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, like skeletal muscl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ponds to increased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ensatory hypertroph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rounding fibers (left ventricula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ertroph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 cell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the capacit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itotic division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ut unlike skelet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, lacks satellite cells…it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hibit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ttle or no capacity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erneration after inj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304920"/>
            <a:ext cx="832176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responds to increas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mands or damage by b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compensatory hypertr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hyperplasia (addition of new fiber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mooth muscle cells are derived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otic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existing smoot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tion of stem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e.g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icytes from blood vessel wa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439560"/>
            <a:ext cx="89154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uscle Nomencla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Individual Muscle Cells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my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fiber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10 - 100um diameter - several millimeters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long, multinucleated cells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can be as long as 30 cm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ultiple nuclei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are located at the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riphery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cytopl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standard cytoplasmic organelles have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become highly specialized in these cells and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re given different names, usually preceded by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prefix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Myo”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or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Sarc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36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8839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KELETAL MUSCLE CELL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plasmalemma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rcolemma (specialized invagination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 - tubu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cytoplas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sarcopl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sarcoplasmic reticulum (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ensive- highly specializ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cytoplasmic filament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myofil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Bundles (1-3um diameter) = myofibr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Individual = thin/thick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Mitochondri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sarc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usually encircle the myfibrils near the I-b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686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SCLE FIBER TYP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keletal muscle fibers contain the prote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gl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ilar to hemoglobin in blood in that i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s as an oxygen donor for the metabolic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chinery of th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keletal muscle fibers can be divided into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 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ording to thei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glob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INTERMED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306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06280"/>
            <a:ext cx="87184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D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WHITE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(Type I)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Type II B)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(Type II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mall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arge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yoglobi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myoglobi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lycoge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glycoge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glyc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tochondri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mitochondri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low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Very Fast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Moderately F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ntraction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ntraction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n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ng acting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pidly fatigued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rimarily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rimarily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Oxidativ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lyc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erobic ATP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aerobic ATP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erobic &amp; anaerob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io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io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7360" y="6249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8240" y="6249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28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Bands in Striated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the light microscope muscle cells cu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longitudinal section exhibit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racteristic pattern or banding 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striation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reflects the ultrastructur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ganization of the myofibrils which ar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yed in precise and regular alignmen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thin the sarc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5960" y="2516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452520"/>
            <a:ext cx="86868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A-Band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rk staining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I-Band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ght staining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Z-line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rk line which bisects the I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series of alternating light and dark bands is the light microscopic appearance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asic contractile uni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the muscle cell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rcomere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152280"/>
            <a:ext cx="883908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HE SARCOM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ed of the region from one Z line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o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prox 2.5u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1.5um = A-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1.0um = I-b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plasm of an individual muscle cel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 filled with long cylindrical bundles call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yofibril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out (1-2um in diameter)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igned parallel to the long axis of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fi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14280"/>
            <a:ext cx="8610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myofibril exhibits the same banding pattern as the muscle cell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recise lateral alignment of myofibrils within the muscle cells that gives the appearance that the striations run across the entire width of a ce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we examine a single myofibril at the EM level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sible to distinguish two additional bands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rcom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H-Zone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ght staining region in the center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-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M-Line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rk staining line in the center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-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1360" y="314280"/>
            <a:ext cx="86263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NDS OF THE SARCOME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-B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of overlapping thick and th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-B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Thin filam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-B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Thick filam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-Lin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Thick filaments and crossbri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Z-Lin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alternately spaced thin filaments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joining sarcomeres anchored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in crossbri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8824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60440"/>
            <a:ext cx="8686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MUSCLE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Unicellular organisms have developed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ytoplasmic specializations responsible for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otility (cilia and flagell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ulticellular organisms have adapted a class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of mesodermally-derived cells specialized for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ontractile 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31040" y="306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839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Z-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 Major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Z-Line Prote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Anchoring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Alpha Actini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inding protein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Cap-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aps the (+) ends of the th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la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5960" y="230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"/>
            <a:ext cx="861048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 FILAMEN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nd associated prote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Act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polarized having a plus + (attached)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minus (free)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lical d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Tropomyos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regulates availability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binding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Tropon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Ca+ regulation of contr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Nebul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nchored at Z-line, runs the length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actin fila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5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Tropomodul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cap protein for (-) end of act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480" y="0"/>
            <a:ext cx="887724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 FILAMENTS: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pprox. 1.0um long, 6-7 nm di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ou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ct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F-actin) formed from two strand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globular actin (G-actin) arranged in a double heli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nds of the prote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omyos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re associat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the actin double helix in the groove between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F - actin str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is the location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binding sit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n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n mole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rest the structural conformation of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opomyosin strands is such that tropomyos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vers these  myosin binding sites on the act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88240" y="687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7680" y="76320"/>
            <a:ext cx="83977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lobular protein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opon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ttaches to the tropomysin strands at regular interv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Troponi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has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3 subunits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n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ropomyocin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s to the tropomyos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Tn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inhibi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hibits (regulates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vering of )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osin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te on actin 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T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calcium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ing site for calciu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the initiation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2280" y="382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456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52280"/>
            <a:ext cx="89154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CK FILAMEN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d associated prote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yosin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major structural protein  (dim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-line Prot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yomes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s myosin bundles apar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ow for overlap of thin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eatine kin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catalyzes the convers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P   &gt;   A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-protein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nds myosin strands together into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ck  fil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itin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Anchors the tail regions of the myosin di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7680" y="423720"/>
            <a:ext cx="83977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YOSIN (THICK) FILA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prox 1.5um long, 12-15nm diam - composed primarily of multiple strands of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dim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held together by a structural protein term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-Prote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myosin monomer is composed 3 reg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ch together take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golf club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like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a shor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ad reg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heavy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a shor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ck reg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heavy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a longe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il reg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light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2280" y="1540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0"/>
            <a:ext cx="838188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ead/neck region of myosin contains 3 important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Actin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ATP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Flexible region capable of conformational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myosin light chain proteins which wrap around the myosin n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*  essential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*  regulatory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tail regions of the myosin are anchored to an extremely large the prote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A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which anchors to the Z-line at one end and the tail region of the thick filaments at the oth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9640" y="611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596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5480" y="2209680"/>
            <a:ext cx="854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 OF THE PROTEIN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THE SACOM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24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52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17680" y="473040"/>
            <a:ext cx="86263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-tubules and the Sarcoplasmic Reticul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 contraction predominently depends on 2 physiological ev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polarization of the muscle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 release of 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ions from intracellular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ores within the muscle cell sarcoplasmic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t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 cells have evolved specialization of both intracellular and plasma membranes to assist in these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88240" y="777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423720"/>
            <a:ext cx="83214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rcoplasmic Reticulu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ry extensive within a singl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 large bulbo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al cisterna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’s terminal ends near the junction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and I b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R completely surround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ac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yofibr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 a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reservoir for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10480" y="76212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43956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Muscle tissue is one of the 4 basic tissue ty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general structure of muscle is a striking example of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“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RM FOLLOWS FUNCTION 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228600"/>
            <a:ext cx="85345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-tubu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 effect a more uniform and rapid distribution of membrane depolarization the sarcolemma has evolved a system of invaginating tubules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-tubules.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ep invaginations of the muscle cell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-tubules invaginate at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/ I junc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rround this region at each myofib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it possible for membrane depolarization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 instantaneously distributed to all myofibr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-tubules are flanked by a pair of terminal cisternae of the sarcoplasmic reticulum and the three structure are collectively term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“triad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59640" y="230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61272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640080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41080" y="228600"/>
            <a:ext cx="838116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liding Filament “Theory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f Muscle Contra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contraction of a muscle fi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ze of the A-band is un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-band and H-zone decreas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ontractile mechanism proposed to ac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this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sliding filament theory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muscle contrac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457200"/>
            <a:ext cx="8686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model proposes that during contracti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ck and thin filaments of a sarcomere slide past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other causing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hortening of the I-ba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due to increased overl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thick and thin filaments (reducing the H z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liding motion is due to the binding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head to the actin filaments resulting i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ormational change in the myos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resting muscle, myosin and actin filament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nnot interact because the binding sites for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head on the actin filaments are block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troponin-tropomyosin complex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36400"/>
            <a:ext cx="832140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raction of a single muscle cell is 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-or- n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event, but contraction typically occurs in a smooth precise fash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s is due to the unique 3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mensional arrangement of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ofila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digitation of thin and thick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laments is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not 1: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77840"/>
            <a:ext cx="8321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ransverse EM view of the sarcomere sh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ch actin filament is associat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djacent myosin fila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ch myosin filament contac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jacent actin fila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42280" y="2560680"/>
            <a:ext cx="3605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SCLE   I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76560" y="142920"/>
            <a:ext cx="971784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major steps in muscle contra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Generation of a nerve impul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ction potentia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ng an afferent nerve fiber terminating o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aptic transmission of the afferent impul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uscle cell depolar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elease of C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from the S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Unmasking of myosin binding sit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n fila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Binding of myosin to the actin filament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he “power stroke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423720"/>
            <a:ext cx="88394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ration of a nerve impul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action potential) along 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fferent nerve fiber terminating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 muscle cell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itial signal for muscle contrac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ises from a nerve impulse generat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ng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elinated axons of  somatic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 neur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the central nervous syst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neurons are located in the ventral hor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al cor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5960" y="2440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2860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terminal ends of thei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tor ax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 in a specialized contact on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termed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neuromuscular/myone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ction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iven motor axon c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anc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t 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p to contact many individual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motor axon and all of the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that it contacts are termed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 unit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umber of cells in the motor unit determin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ec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the muscle mov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228600"/>
            <a:ext cx="876312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yoneural junction and the mus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nap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point of contact forms a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-cell j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embranes of the motor axon fan out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 a specialized contact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“mo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endplate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tor endplate and th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become closely apposed i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allow invagination of the sarcolemma -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“primary synaptic clef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8824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10480" y="20574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0440"/>
            <a:ext cx="87627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omposed of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two basic elements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Muscle cells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fib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develop contractile force through shortening of the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Connective Tiss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rovides a framework against which the contractile forces of muscle cells can be exe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urrounds and support aggregates of muscle fibers providing nutrients, oxygen and nerve innerv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uscle tissue is provided with a rich complement of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 Black"/>
              </a:rPr>
              <a:t>Bloo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 Black"/>
              </a:rPr>
              <a:t>vessels &amp;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53352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edges of the synaptic cleft are mark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smaller infoldings of the sarcolemm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secondary synaptic clefts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junctional fol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increas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total surface area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rve/muscle conta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terminal ends of the motor axon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numero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acellular vesic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lled wit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eurotransmit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etylcho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colemmal membrane adjacent to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aptic cleft contains specializ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or acetylcho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612280" y="236376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10480" y="30510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28600"/>
            <a:ext cx="891540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naptic transmission / muscle de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lease of acetylcholine into the synaptic c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sicles in the motor axon terminal results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Activation of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etylcholine recepto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Opening of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ligand-gated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hannels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resulting  in initial depolar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the 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Opening of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voltage-gated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hannels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resulting in widesp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236376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27960" y="1981080"/>
            <a:ext cx="7187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xcitation / Contract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oupl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2760" y="209520"/>
            <a:ext cx="862632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3.  Release of C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rom the 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Classic St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sarcolemm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imulates the formation of  inositol tri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osphat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colates in the sarcoplasm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of the SR and binds  to a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ne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the termin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ternae of the  SR membr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(but see also Dihydropyridine mod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released through these channels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tracellular levels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  --  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64560" y="1906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764560" y="3660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512640"/>
            <a:ext cx="80168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What Really Happens 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sarcolemm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ates a dihydropyridine recep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HPR)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HPR is mechanically coupl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yanodine receptors  which are calc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nnels inserted into the SR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released through these channel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the intracellular levels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  --  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182880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152280"/>
            <a:ext cx="868680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P 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masking of myosin binding si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in 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creased intracellular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s to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n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ubunit of the troponin complex o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n fila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ing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e troponin/tropomoys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x results in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ral rotation of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opomyosin strand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riving it deeper in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groove between the two actin hel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otation of the tropomyc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ver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sin binding si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n the actin fila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64560" y="2440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64560" y="4421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868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5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nding of myosin to the ac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lament and the “power strok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it’s binding site uncovered, myosin is now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ee to bind to it’s binding site on the act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is point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DP + P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re bound to the hea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on of the myosin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masking of the myosin binding site by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ows the myosin  to extend out and bind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ctin -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s releases the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DP is then release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from the myosin head and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neck flexes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power strok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53370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7160" y="254160"/>
            <a:ext cx="87012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flexion of many myosin heads, ratche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ctin filament along the myosin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wer strok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arcomere short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strok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” is estimated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cumulative sequential power strok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ny myosin heads = full muscle c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cycles is repeated at a rate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-50 strokes/seco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vi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critical level of intracellular 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s maintai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s available as energy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280" y="22860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IGOR COMPLEX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ing the power stroke, the myos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mains attached to the actin filament a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osin light chains are in their flex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configuration is known as the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“rigor complex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igor complex is maintained indefinitely unti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ATP binds to the head region of the my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 ATP is thus required to break the rigor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37400" y="25938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17680" y="374760"/>
            <a:ext cx="85658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uscle Relaxatio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ofilament attachments releas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rcomere returns to its resting leng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scle relaxation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 pass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rom the standpoi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ioenerge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ar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%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ATP involved in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raction / relaxation  cycle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ilized during relax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4604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0"/>
            <a:ext cx="906768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Functions of Muscl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1. 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Exter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keletal (movement of your 206 bones &amp;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jo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 cardiac = blood thru circulator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 smooth =movement thru tubular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(food thru GI tract, Blood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2.  Posture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- tonic control of axial muscles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against gravity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isometric contrac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3.  Heat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generation of body heat, 85%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shivering=    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scillating contraction/relax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17680" y="423720"/>
            <a:ext cx="8397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cle relaxation is a 2 step proces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 of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from the sarcoplasm 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o the lateral cisternae of the S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chment of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om the Tn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ubuni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ponin and the  de-rotation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pomyosin out of the actin grove to again cover the myosin binding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34520" y="144792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228600"/>
            <a:ext cx="86868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LCIUM REMOVAL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ing the depolarization of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,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R acts 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”sink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actively transports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ons back into the SR lum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via 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/ATPase driven ion pu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inside the SR lumen,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inds to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inding prote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Calsequestrin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process restores intracellular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ack to rest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3716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65040" y="141120"/>
            <a:ext cx="8550360" cy="66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cle tissue has a voracious appetite for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P has 3 major uses in muscl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wers the myosin-act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power strok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approx. 5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quired to break the rigor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wers the Ca++ ATPase ion at the Sarcoplasmic Reticul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relaxation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approx. 5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processes require that muscle tissue be well adapted to rapidly regenerate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1880" y="51814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185760"/>
            <a:ext cx="8915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FERENT INNERVATION OF SKELETAL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movement requires feed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about the current state of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ctile machin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keletal muscle is supplied by afferent nerve endings from the CNS which provide a mechanism for precisely monitoring the contractile state of musc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involves 3 classes of sensory e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Muscle spindles **  (muscle stret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Tendon orga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uscle ten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Joint recepto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joint posi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0440" y="66600"/>
            <a:ext cx="8524440" cy="63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CLE SPIND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length registering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fusiform structure 5mm x .2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ed of modified muscle fibers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ntrafusal fibe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enclosed in  a conn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ssue caps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ented longitudinall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muscle along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xis of 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ble in numb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most numerous in f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ol mus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5960" y="687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131760"/>
            <a:ext cx="86263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muscle spindle is composed of a conn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ssue capsule surrounding 2-12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fiber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ntrafusal fibe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 These cells have fewer myofibrils and are not designed for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 types of intrafusal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1-2 mm long thick fibers w/ several nuclei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 their midregion =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nuclear bag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Several shorter, thinner fibers w/ nucle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igned  in rows =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nuclear chain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28600"/>
            <a:ext cx="83977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spindles are innervated by large sensory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types of afferent end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sensory fibers pene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psule and spiral around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afusal fibers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annulospiral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primary) e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er fibers enter the capsul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inate in a  spray-like arb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clear chain fiber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lower spray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secondary) e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04920"/>
            <a:ext cx="8001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sensory end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cle stretc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y generating neur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ulse in the afferent fi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nerve impulses are conveyed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pinal cord and CNS.  This provid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ormation about the state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on of a given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217440"/>
            <a:ext cx="86263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of repeated muscle cell contraction are reduc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an intracellular system of  intermediate fiber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desmin, vimentin, dystrophi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chored to the muscle cell membran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scular Dystroph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netic disorder characterized by chronic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gessive muscle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link recessive muta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n the gene coding for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ein dystrophi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ss of dystrophin results in  destabiliz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which ruptures during repeat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action profound muscle cell lo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ath results from cumula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age to cardia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respiratory muscle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115920"/>
            <a:ext cx="870264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asthenia Grav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utoimmune disord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haracterized 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progessive muscle weak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 from the production of antibodi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block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etylcholine recepto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romuscula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otal ACh receptors decli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ation / contraction  is reduced. Muscle are weak and fatigue eas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ed with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hE bloc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89154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tructural Requirements of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1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Generation of Tension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shortening,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2/3  of its lengt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2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Attachment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connective tiss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3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Control of Contra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on/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magnitude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precise controlled mov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commun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coordinated contraction of al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coordinated nerve muscle signal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4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Repair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after damage or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cell differen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mitotic di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42640" y="2560680"/>
            <a:ext cx="37742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SCLE   II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37320" y="2895480"/>
            <a:ext cx="4802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RDIAC MUS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228600"/>
            <a:ext cx="8458200" cy="64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RDIAC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internal arrangement of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ofilaments as skeletal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banding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biomechanical interaction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actin and myosin filament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e contraction of the cardiac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2440" y="992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28600"/>
            <a:ext cx="861048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volunt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oes not require an external trigger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ven though cardiac muscle i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iated it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volunt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i.e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muscl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contract without any neu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heartbeat is initiated by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ontaneous depolarization of speci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cemaker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the atrial region of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.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contraction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dulat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the autonomic nervous system throug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gus (IX)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228600"/>
            <a:ext cx="86263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ally cardiac muscle is very similar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keletal muscle.  There are however a number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al and functional diffe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 the LM Level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ppears as single branching fibers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 to end by darkly staining jun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ically contain only 1-2 centrally located p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ining nucle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lemma contains myofibrils that exhibit the same  organization and banding pattern as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64560" y="5335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764560" y="5945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0200" y="190440"/>
            <a:ext cx="928080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diac muscle differs from skeletal muscle in several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 Cardiac myocytes are sh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connective tissue between cardiac myocy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ilar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mysium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Perimysium or Epimys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Myocytes direct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 by cell-cell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Cells not arranged in long parallel array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ching and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o-nucleat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occasionally binucle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n oxidative phosphoryla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his establishes and absolute requirement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coronary blood fl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04120" y="254160"/>
            <a:ext cx="87804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nce Cardiac Muscle relies heavily (90%)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xidative phosphorylation for energy produc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plasm is filled with numer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tochond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tochondria make up near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 -45%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 volum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vs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2% in skeletal mus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tochondria tend to be aggregated betwe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ofibrils and at the poles of the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35960" y="2744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8760" y="423720"/>
            <a:ext cx="8614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 MAJOR DIFFERENCES BETW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RDIAC AND SKELETAL MUSCLE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* Related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*  different functions of the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*  different environment in wh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se muscles op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457200"/>
            <a:ext cx="86868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ELL-CELL JUNC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 ICD &amp; G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-TUBULES /SR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-TUBULES LARG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SARCOPLASMIC RETICULUM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SR SPARSE &amp; DIFFUSE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{Ca+ from extracellular source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ENTRY REQUIR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--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EXCHA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CROSS SARCOLEM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RING REL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ITOCHONDRIAL OX-PHOS REQUIR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AT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{requirement for coronary blood flow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BER ORIENT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TRANSMURAL ROTAT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S ACROSS HEART W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23440" y="473040"/>
            <a:ext cx="85608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 DIRECT CELL- CELL J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eletal muscle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directly adherent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urrounding endomys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force transmitted to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myocy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dividual cell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cted end to end by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nction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ntercalated Disk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run across the end junction of two cardia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s and are divided into 2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nsverse - 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52280"/>
            <a:ext cx="88394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General Organization &amp; Nomencl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Muscle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any muscle cell groups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fascicles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urrounded by a sheath of dense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irregular CT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epimysium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type I colla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Fascicle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groups of muscle fibers (ce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surrounded by septa of CT from the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pimysium -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perimysium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(typ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olla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Fiber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n individual muscle cell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long cylindrical cell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surrounded by loose CT -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endomysium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nd a basal lamina (type I,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IV collag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Muscle cell = Muscle fiber = Myo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5960" y="8398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64560" y="4116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4560" y="3735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7600" y="304920"/>
            <a:ext cx="8433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calated disks conta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typ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of junc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ascia Adhere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transverse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Desmosom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(transverse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Gap Junctio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longitudinal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ser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a mechanism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llular adhe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-cell communication via gap junc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aid in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of electrical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oughout the heart musc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64560" y="12207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08080"/>
            <a:ext cx="89154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verse Region of the Intercalated Dis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Finger-like projections of the cell membra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n filaments insert into the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is point similar to a Z-line in skeleta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ycoproteins and actin insert into this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ween adjacent cells to forming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hering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nction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Fascia Adherens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Regions between adjacent myofiblil bund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 there are no thin filaments are join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desmosomes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28600"/>
            <a:ext cx="86104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teral Region of the Intercalated Dis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Form junctions between laterally adjacent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Gap junctions similar to those found in epitheli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Composed of pores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x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form a functional electrical syna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small molecules (ions) and electrical sig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dily pass through gap 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p junctio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id in the spread of the de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oughout the heart muscle, by quickly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moothly transmitting the cardiac action potentia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oughout the heart w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88240" y="2744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21640" y="522360"/>
            <a:ext cx="866448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IAD STRUCTURE OF T-TUBULES AND 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eletal Muscle - voluntary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-tubules are of moderate size and sur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yofibril bundles at the region of the A-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Muscle: transmission of depolar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t be absolutely sec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-tubules are of much larger diameter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round the myofibrils at the Z-line ra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 the A-I 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88240" y="1297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868680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ARSE SARCOPLASMIC RE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Skeletal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plasmic reticulum =very extensiv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dilated at is terminal exten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al cisterna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large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er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ardiac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plasmic Reticulum are tubular b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ite sparse, and lack the large termin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ternae seen in skeletal muscl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cut in crossection usually only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ngle T-tubule and SR profile are observed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8824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4560" y="4421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7680" y="522360"/>
            <a:ext cx="84740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CALCIUM-INDUCED CALCIUM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on potential of skeletal muscle: 2 distinct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flux   depolarization - follow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fflux   repo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sarcoplasm trigg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IP3 relea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DHP activation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a+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lease from the SR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itiates contrac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y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otal duration of the action potential is 4.0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57200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200160"/>
            <a:ext cx="86868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on potential of Cardiac Muscle h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distinct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flux  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- follow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flux 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teau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fflux 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po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otal duration of the action potential is 200 milli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ing the plateau phase of the depolarization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extracellula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ers the sarcoplasm throug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tage-gated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xtracellula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ry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ctivates 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sensi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hannels on the SR membran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ase of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tracellular C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from the SR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ation of the contraction cy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9640" y="1906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228600"/>
            <a:ext cx="86263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traction of Cardiac Muscle is thus trigger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 A calcium-induced - calcium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lcium entry is absolutely required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orce of contraction is directl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{nearly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early}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lated to the amount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th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s th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ecrease Ca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++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by ½  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decrease the force of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contraction by 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oubling Ca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++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influx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ouble the force of con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500040"/>
            <a:ext cx="86104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s is the basis for the efficacy of an entire class of cardiovascular drugs used to treat hypertension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ium channel block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se drugs block 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ntry into the sarcoplasm by blocking the voltage-gated 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channels on the sarcolemmal membrane and the S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152280"/>
            <a:ext cx="86868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 CALCIUM REM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oval of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fro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ells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complished through a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ATPase in the S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rane that transports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ack into the S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parse SR of Cardiac Muscle cannot accommo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arge volume of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hat enters the myoc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ing contraction -  this must be return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racellular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diac Muscle has developed 3 mechanism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moval of intracellular 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ATPase on the SR membrane (small amou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N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tiport system in the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ATPase on the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152280"/>
            <a:ext cx="89154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Within each individual muscle cell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Myofibri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tructural units within the muscle cell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arcoplas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omposed bundles of two types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filaments =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myofilaments </a:t>
            </a: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(hundreds / myofibril)</a:t>
            </a: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Myofibrils are held in precise alignment by intermediate filaments </a:t>
            </a:r>
            <a:r>
              <a:rPr b="0" i="1" lang="en-US" sz="2000" spc="-1" strike="noStrike">
                <a:solidFill>
                  <a:srgbClr val="ff9900"/>
                </a:solidFill>
                <a:latin typeface="Arial Black"/>
              </a:rPr>
              <a:t>(desmin, vimentin, dystroph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Myofila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 thin (actin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thick” (myosin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rotein chains.  The precise alignment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se filaments gives the appearance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triations of the LM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5960" y="1373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88240" y="6478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88240" y="60976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208080"/>
            <a:ext cx="8534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 GENERATION IS FUELED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TOCHONDRIAL OXIDATIV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 derives the ATP for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ion of constant continu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-fatigueable contraction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xidative phosphoryl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requi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An adundant supply of mitochond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On demand, regulated blood oxyg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228600"/>
            <a:ext cx="84582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etabolism of the heart is characteriz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ighest rate of energy turnover of 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gan in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efficient (75%) extraction of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xygen of any organ in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2 X   that of the kidn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8-10 X    that of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xygen delivery to the heart is cri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by the coronary blood flow - with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margin for hypoxia.  Ischemia (re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 flow) leads to decreased contractile force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as 10-20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3680" y="3811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17680" y="522360"/>
            <a:ext cx="839772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MURAL ROTATION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DIAC MY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rientation of skeletal muscle fi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unidirectional parallel to the ax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tension in the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heart the axis of tension of cardiac muscle cells is variable, since the heart as an organ must “squeeze” to pump bl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595440"/>
            <a:ext cx="84582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ardiac Myocytes rotate their orientation throughout the wall of the myocar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outside to inside the orientation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ibers goes through a complete 180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gree ro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renders the heart wall structurall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ust and prevents rupture of the cardiac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l under the stress of con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35960" y="2973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5880" y="325440"/>
            <a:ext cx="65552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6720" y="700200"/>
            <a:ext cx="86036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Smooth muscle plays a critical role in regul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ariety of other organ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Re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Blood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depend on the actions of Smooth Mus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rrangement of muscle cells with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is dependant on the typ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fun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sheets vs. circular b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41360" y="422280"/>
            <a:ext cx="82454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GENERAL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is predominently arranged in sheets of muscle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Circ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Longitudin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d around the hollow viscera of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dy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thin these sheets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are organized into anastomo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52280"/>
            <a:ext cx="89154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, like cardiac muscle is innervated by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nomic nervous =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involunt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pable of maintaining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ed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ous contrac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mportant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ulating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nus and lumenal diamet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bular structures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Blood Vessels -  Digestive &amp; Urinary 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Reproductiv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  cells of the vascular system pro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ortan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nents of intercellula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ctive tissue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lastin - Collagen - GAGs – Proteogly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28600"/>
            <a:ext cx="8169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MOOTH MUSCLE CELL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cells are narrow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pering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siform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200 um long X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um dia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ells ha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centrally locat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which is “pleated”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ed fi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transverse st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sal Lamin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urrounds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ll as a network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licat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ticul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nective t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5960" y="3963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28600"/>
            <a:ext cx="8915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YTOPLASMIC ORGANEL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fined to the conical region around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les of the elongated nucleus.  Thes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mitochondr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olgi appar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cattered r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free ribos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35960" y="2973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7800"/>
            <a:ext cx="8626320" cy="62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3 types of mus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keletal - Cardiac -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Muscle Classification Schem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1.  Structural organiz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- Presence or absence of st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2. Control of Contr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- Voluntary or involuntary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35960" y="1449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35960" y="45734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9154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ytoplasm is occupied by 3 types of fila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 Filamen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ctin, and tropomyosin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no tropon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ck Filament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yosin) similar to skeletal, excep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ifferent “regulatory light chains” in the neck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ifferent conformation =  folded with ligh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eromyosin covering the actin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Intermediate Filaments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esmin, vimen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76040"/>
            <a:ext cx="86868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racteristic plaque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ense bodi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ed of a-actin are seen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plasm and inner surface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th thin and intermediate filaments inser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o the dense bodies forming a structur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ogous to the Z-line in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nse bodies and associated filaments for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ntinuous interconnected skelet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ds throughout the sarcopl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provides the scaffolding against whic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le force can be gener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535960" y="534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17680" y="620640"/>
            <a:ext cx="816912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R of smooth muscle is spar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th no terminal cisterna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calcium derived from extracellular poo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lemma contains numerou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sicle-like structures -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veolae 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vaginate into the cell and are thought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  as analogues of T-tu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1830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17680" y="522360"/>
            <a:ext cx="74833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MOOTH MUSCLE CONTR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ch less is known about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chanisms of contractio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tracellular filaments a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ularly arranged into sarcomer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ke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atio  Actin / Myos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grea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 in striated musc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more thin fila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609480"/>
            <a:ext cx="777240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is proposed that contraction occurs via a sliding filament mechani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n / myosin interaction similar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een in skeletal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sion is transmitted to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mediate fila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ffold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ached to the dense bod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390600"/>
            <a:ext cx="861084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initiation of the contraction in smooth muscle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s the cell from extracellula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on requires the interaction of act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myosin filament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presumably using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iding filament mechan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he Actin / Myosin interaction is dependent upon the presence phosphorylated myosin via a phosphorylating enzy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sin Light-Chain Kin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85840"/>
            <a:ext cx="868680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yosin Light-Chain Kin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arcoplasm in an inactive form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xed with a Calciu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nding protein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lmodul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ctiv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are 5 major steps in smooth 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76320"/>
            <a:ext cx="8839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EPS IN SMOOTH MUSCLE CONTRA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+ enter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he muscle cell and complexes with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++ binding prote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modu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+/calmodulin complex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inds to 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yosin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ight chain kin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roducing the active form of th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light chain kinase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sphorylat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light chai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t the myosin filament neck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unfold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llowing the interaction with myos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nding sites on the actin thin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interacts with act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o exert pull on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mediate filaments attached to the dense bod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228600"/>
            <a:ext cx="824544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NERVATION OF SMOOTH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s exist in 2 different arrangements distinguished by their innervation d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Unitary (Visceral)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d in circular or longitudin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ets around hollow vis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w neuromuscular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ulses are transmitted betwee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a Gap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17680" y="152280"/>
            <a:ext cx="824544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ble of sustained slow contrac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regulate the lumenal diameter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bular structures and init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hythmic peristaltic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rve impuls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regulate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ather tha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initiate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  Multi-unit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bundles of smooth muscl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Iris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s Deferens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pid and precise con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muscle cell is individual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nerv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8:37:57Z</dcterms:created>
  <dc:creator>Information Systems</dc:creator>
  <dc:description/>
  <dc:language>en-US</dc:language>
  <cp:lastModifiedBy>nchiaia</cp:lastModifiedBy>
  <dcterms:modified xsi:type="dcterms:W3CDTF">2007-09-05T21:15:14Z</dcterms:modified>
  <cp:revision>317</cp:revision>
  <dc:subject/>
  <dc:title>X</dc:title>
</cp:coreProperties>
</file>